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8481-561C-4951-84C4-1DF0C9F1557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560C-0D51-4354-AAA8-574ACF096053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AA35-FC4E-4F21-9308-6D4B2486C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DEA1-C7C2-4ABA-94D3-A25F1F81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2F22-1FD8-4385-A6E0-B3DC212BD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D788-FC7F-4141-BAD2-8E96FB26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EABC-DA93-42D0-AE83-F82237AA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90A4-DF11-4594-8D58-02ED905A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718B-B3DC-42E8-BDCB-9BA242B0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787F-FD71-42B8-B6CB-644186D9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E39C-7FAB-411B-8C4C-7E076180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23D2-327F-4CF3-8D7E-9B582FF9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46B9-31A4-4DEB-9B8E-12A6CBFF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3DAE-A99C-4C31-BB4C-7A6022CE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8BD3-B38F-42BC-B41E-93098BF29DEE}" type="slidenum">
              <a:rPr b="0" lang="de-D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2960" y="150012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c000"/>
                </a:solidFill>
                <a:latin typeface="Calibri"/>
              </a:rPr>
              <a:t>Chaos macht Schule</a:t>
            </a:r>
            <a:br>
              <a:rPr sz="4400"/>
            </a:br>
            <a:br>
              <a:rPr sz="800"/>
            </a:br>
            <a:r>
              <a:rPr b="1" lang="de-DE" sz="4400" spc="-1" strike="noStrike">
                <a:solidFill>
                  <a:srgbClr val="ffc000"/>
                </a:solidFill>
                <a:latin typeface="Calibri"/>
              </a:rPr>
              <a:t> Internet und Privatsphä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57200" y="4285800"/>
            <a:ext cx="6400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Chaos Computer Club Hambur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Rainer  -  Björn  -  Lutz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Gerade Verbindung 8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Privatsphä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785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Funktioniert Privatsphäre auch im Internet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Funktioniert Privatsphäre</a:t>
            </a:r>
            <a:br>
              <a:rPr sz="4400"/>
            </a:b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auch im Internet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Lesen, denken, nochmal denken und dann erst machen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Füllt bei der Anmeldung nicht alle Daten aus, sondern nur die, die unbedingt notwendig sind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Ändert die Einstellungen eures Profils so, dass nicht jeder andere Benutzer alle Daten von euch sieh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Prüft, wem ihr eure Daten eigentlich geb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3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oziale Netzwerk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Wer von euch nutzt „</a:t>
            </a:r>
            <a:r>
              <a:rPr b="1" i="1" lang="de-DE" sz="2600" spc="-1" strike="noStrike">
                <a:solidFill>
                  <a:srgbClr val="ffffff"/>
                </a:solidFill>
                <a:latin typeface="Calibri"/>
              </a:rPr>
              <a:t>Soziale Netzwerke“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Picture 3" descr="G:\Chaos macht Schule\Mittelstufe - Wilhelm-Gymnasium - HH-Harvestehude\Keynote\screenshot 50.png"/>
          <p:cNvPicPr/>
          <p:nvPr/>
        </p:nvPicPr>
        <p:blipFill>
          <a:blip r:embed="rId2"/>
          <a:stretch/>
        </p:blipFill>
        <p:spPr>
          <a:xfrm>
            <a:off x="6429240" y="4000680"/>
            <a:ext cx="1428840" cy="496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G:\Chaos macht Schule\Mittelstufe - Wilhelm-Gymnasium - HH-Harvestehude\Keynote\screenshot 51.png"/>
          <p:cNvPicPr/>
          <p:nvPr/>
        </p:nvPicPr>
        <p:blipFill>
          <a:blip r:embed="rId3"/>
          <a:stretch/>
        </p:blipFill>
        <p:spPr>
          <a:xfrm>
            <a:off x="4857840" y="2857680"/>
            <a:ext cx="1803240" cy="990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G:\Chaos macht Schule\Mittelstufe - Wilhelm-Gymnasium - HH-Harvestehude\Keynote\Bild 25.png"/>
          <p:cNvPicPr/>
          <p:nvPr/>
        </p:nvPicPr>
        <p:blipFill>
          <a:blip r:embed="rId4"/>
          <a:stretch/>
        </p:blipFill>
        <p:spPr>
          <a:xfrm>
            <a:off x="1071720" y="2928960"/>
            <a:ext cx="2422440" cy="1201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G:\Chaos macht Schule\Mittelstufe - Wilhelm-Gymnasium - HH-Harvestehude\Keynote\screenshot 53.png"/>
          <p:cNvPicPr/>
          <p:nvPr/>
        </p:nvPicPr>
        <p:blipFill>
          <a:blip r:embed="rId5"/>
          <a:stretch/>
        </p:blipFill>
        <p:spPr>
          <a:xfrm>
            <a:off x="2643120" y="4071960"/>
            <a:ext cx="3594240" cy="1079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G:\Chaos macht Schule\Mittelstufe - Wilhelm-Gymnasium - HH-Harvestehude\Keynote\screenshot 49.png"/>
          <p:cNvPicPr/>
          <p:nvPr/>
        </p:nvPicPr>
        <p:blipFill>
          <a:blip r:embed="rId6"/>
          <a:stretch/>
        </p:blipFill>
        <p:spPr>
          <a:xfrm>
            <a:off x="785880" y="5357880"/>
            <a:ext cx="2428920" cy="563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G:\Chaos macht Schule\Mittelstufe - Wilhelm-Gymnasium - HH-Harvestehude\Keynote\screenshot 52.png"/>
          <p:cNvPicPr/>
          <p:nvPr/>
        </p:nvPicPr>
        <p:blipFill>
          <a:blip r:embed="rId7"/>
          <a:stretch/>
        </p:blipFill>
        <p:spPr>
          <a:xfrm>
            <a:off x="5000760" y="4929120"/>
            <a:ext cx="1828800" cy="914400"/>
          </a:xfrm>
          <a:prstGeom prst="rect">
            <a:avLst/>
          </a:prstGeom>
          <a:ln w="0">
            <a:noFill/>
          </a:ln>
        </p:spPr>
      </p:pic>
      <p:sp>
        <p:nvSpPr>
          <p:cNvPr id="116" name="Gerade Verbindung 13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3" descr="G:\chaosknoten.png"/>
          <p:cNvPicPr/>
          <p:nvPr/>
        </p:nvPicPr>
        <p:blipFill>
          <a:blip r:embed="rId8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2785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Wer von euch ist bei </a:t>
            </a:r>
            <a:r>
              <a:rPr b="1" i="1" lang="de-DE" sz="2600" spc="-1" strike="noStrike">
                <a:solidFill>
                  <a:srgbClr val="ffffff"/>
                </a:solidFill>
                <a:latin typeface="Calibri"/>
              </a:rPr>
              <a:t>SchuelerVZ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71680" y="171432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Klasse 5a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10 Schüle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Klasse 5b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10 Schüle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Klasse 5c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  5 Schüle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Klasse 5d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  6 Schüle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Klasse 5e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  5 Schüle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Klasse 5f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  2 Schüle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785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Was findet ihr an </a:t>
            </a:r>
            <a:r>
              <a:rPr b="1" i="1" lang="de-DE" sz="2600" spc="-1" strike="noStrike">
                <a:solidFill>
                  <a:srgbClr val="ffffff"/>
                </a:solidFill>
                <a:latin typeface="Calibri"/>
              </a:rPr>
              <a:t>SchuelerVZ 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cool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Fremde und Freund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In den Standardeinstellungen dürfen nur eure Freunde auf euer Profil, eure Gruppen und eure Fotos zugreife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So können Fremde euch nicht beobachten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Schaut in euren Einstellungen nach und ändert da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71680" y="1356840"/>
            <a:ext cx="792936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G:\Chaos macht Schule\Gesamtschule Blankenese\Powerpoint\Profil.gesperrt.png"/>
          <p:cNvPicPr/>
          <p:nvPr/>
        </p:nvPicPr>
        <p:blipFill>
          <a:blip r:embed="rId3"/>
          <a:stretch/>
        </p:blipFill>
        <p:spPr>
          <a:xfrm>
            <a:off x="857160" y="1785960"/>
            <a:ext cx="736308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357200"/>
            <a:ext cx="82296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G:\Chaos macht Schule\Gesamtschule Blankenese\Powerpoint\Profil.offen.png"/>
          <p:cNvPicPr/>
          <p:nvPr/>
        </p:nvPicPr>
        <p:blipFill>
          <a:blip r:embed="rId3"/>
          <a:stretch/>
        </p:blipFill>
        <p:spPr>
          <a:xfrm>
            <a:off x="2071800" y="1214280"/>
            <a:ext cx="507204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785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Was bedeutet Freundschaft für euch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Wer sind wir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Der Chaos Computer Club ist seit 25 Jahren eine Vereinigung von Hackern, Computerspezialisten und Datenschützer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Wir beschäftigen uns meist mit interessanter Technik und experimentieren mit ihren Möglichkeiten, untersuchen aber auch ihre Gefahren und Risiken für die Gesellschaf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Wichtig: Freundschaft hat was mit Vertrauen zu tu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Nur weil euch jemand eine Freundschaft anbietet, heißt das noch lange nicht, dass ihr die auch annehmen müss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Oder würdet ihr jeden in euer Zimmer rein lassen, nur weil er oder sie an der Tür klopft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Die meisten „Freunde“ zu haben, ist nicht cool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Cool ist, sich auf richtige Freunde verlassen zu könne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Nicknames sind erfunden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Ina.Lehmann@inter.net muss nicht Ina Lehmann sei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Online kann jeder vorgeben, jemand anderes zu sei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Zuerst prüfen, bevor ihr jemanden als Freund hinzufüg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Was lernen wir aus all dem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28760" y="1642680"/>
            <a:ext cx="82296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Im Internet gibt es keine Polizei oder Behörde, die hilf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Das können eh nur meine Freunde lesen“ gibt es nicht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Das Internet vergisst nichts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Die 4 goldenen Regel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8760" y="14288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Schreibt im Netz nur, was die Welt wirklich wissen darf.</a:t>
            </a:r>
            <a:br>
              <a:rPr sz="2600"/>
            </a:b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Auch in Foren oder im SchülerVZ kann das jeder lesen:</a:t>
            </a:r>
            <a:br>
              <a:rPr sz="2600"/>
            </a:b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Eure Mitschüler, Lehrer, Eltern und sogar Fremde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Wenn möglich, benutzt einen Spitznamen (Nickname).</a:t>
            </a:r>
            <a:br>
              <a:rPr sz="2600"/>
            </a:b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Euren echten Namen könnt ihr nicht so einfach wechsel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Gebt nicht wahllos eure Adresse weg. Auch eure Handynummer geht nur eure Freunde etwas a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Gebt nicht einfach Fotos von euch raus und ladet keine Fotos von anderen ins Internet, ohne sie zu frage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8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Danke fürs Wachbleiben!</a:t>
            </a:r>
            <a:br>
              <a:rPr sz="40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i="1" lang="de-DE" sz="4400" spc="-1" strike="noStrike">
                <a:solidFill>
                  <a:srgbClr val="ffffff"/>
                </a:solidFill>
                <a:latin typeface="Calibri"/>
              </a:rPr>
              <a:t>Fragen? </a:t>
            </a:r>
            <a:r>
              <a:rPr b="0" lang="de-DE" sz="4400" spc="-1" strike="noStrike">
                <a:solidFill>
                  <a:srgbClr val="ffffff"/>
                </a:solidFill>
                <a:latin typeface="Calibri"/>
              </a:rPr>
              <a:t>Immer her damit. :-)</a:t>
            </a:r>
            <a:br>
              <a:rPr sz="40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28760" y="18572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Untertitel 2"/>
          <p:cNvSpPr/>
          <p:nvPr/>
        </p:nvSpPr>
        <p:spPr>
          <a:xfrm>
            <a:off x="1357200" y="3071880"/>
            <a:ext cx="640080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ff"/>
                </a:solidFill>
                <a:latin typeface="Calibri"/>
              </a:rPr>
              <a:t>Chaos Computer Club Hamburg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Rainer  -  rainer@hamburg.ccc.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Björn  -  bjoern@hamburg.ccc.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Lutz  -  lutz@hamburg.ccc.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Wer von Euch spielt…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C:\Dokumente und Einstellungen\Administrator\Desktop\hwg\bilder wow\worldmap.gif"/>
          <p:cNvPicPr/>
          <p:nvPr/>
        </p:nvPicPr>
        <p:blipFill>
          <a:blip r:embed="rId3"/>
          <a:stretch/>
        </p:blipFill>
        <p:spPr>
          <a:xfrm>
            <a:off x="2357280" y="1357200"/>
            <a:ext cx="3429000" cy="2511360"/>
          </a:xfrm>
          <a:prstGeom prst="rect">
            <a:avLst/>
          </a:prstGeom>
          <a:ln w="0">
            <a:noFill/>
          </a:ln>
        </p:spPr>
      </p:pic>
      <p:pic>
        <p:nvPicPr>
          <p:cNvPr id="191" name="Grafik 8" descr="mmorpg-fantasy-metin2-screenshot6.jpg"/>
          <p:cNvPicPr/>
          <p:nvPr/>
        </p:nvPicPr>
        <p:blipFill>
          <a:blip r:embed="rId4"/>
          <a:stretch/>
        </p:blipFill>
        <p:spPr>
          <a:xfrm>
            <a:off x="5572080" y="3286080"/>
            <a:ext cx="2959200" cy="1967040"/>
          </a:xfrm>
          <a:prstGeom prst="rect">
            <a:avLst/>
          </a:prstGeom>
          <a:ln w="0">
            <a:noFill/>
          </a:ln>
        </p:spPr>
      </p:pic>
      <p:pic>
        <p:nvPicPr>
          <p:cNvPr id="192" name="Inhaltsplatzhalter 6" descr="flyffScreenshot2.jpg"/>
          <p:cNvPicPr/>
          <p:nvPr/>
        </p:nvPicPr>
        <p:blipFill>
          <a:blip r:embed="rId5"/>
          <a:stretch/>
        </p:blipFill>
        <p:spPr>
          <a:xfrm>
            <a:off x="785880" y="3714840"/>
            <a:ext cx="276840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Online-Multiplayer-Spie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2785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elche Spiele spielt ihr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s findet ihr daran cool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Online-Multiplayer-Spie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2785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s stört eure Eltern an diesen Spielen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G:\internet.jpg"/>
          <p:cNvPicPr/>
          <p:nvPr/>
        </p:nvPicPr>
        <p:blipFill>
          <a:blip r:embed="rId2"/>
          <a:stretch/>
        </p:blipFill>
        <p:spPr>
          <a:xfrm>
            <a:off x="857160" y="642960"/>
            <a:ext cx="7429680" cy="5072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1600200"/>
            <a:ext cx="6972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Gerade Verbindung 8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3" descr="G:\chaosknoten.png"/>
          <p:cNvPicPr/>
          <p:nvPr/>
        </p:nvPicPr>
        <p:blipFill>
          <a:blip r:embed="rId3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Online-Multiplayer-Spiel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s Eltern an den Spielen nicht so toll find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Die Dauer der Abenteuer ist oft sehr la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Die Spiele können leicht süchtig mach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Man muss oft online sein, um den Anschluss nicht zu verpass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Viele Spiele verursachen laufende Koste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Die Spiele haben kein End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Online-Multiplayer-Spiel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s wir euch empfehl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Plant eure Spiele genau wie andere Termin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Meldet lange Quests bei euren Eltern a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Zeigt euren Eltern, dass ihr die anderen Aufgaben auch erledig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Begrenzt eure wöchentlichen Ausgaben für das Spiel (bei Flyff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8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Wie funktioniert eigentlich</a:t>
            </a:r>
            <a:br>
              <a:rPr sz="4000"/>
            </a:b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das Internet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2" descr="G:\internet.gif"/>
          <p:cNvPicPr/>
          <p:nvPr/>
        </p:nvPicPr>
        <p:blipFill>
          <a:blip r:embed="rId2"/>
          <a:stretch/>
        </p:blipFill>
        <p:spPr>
          <a:xfrm>
            <a:off x="1928880" y="1571760"/>
            <a:ext cx="5214960" cy="4643280"/>
          </a:xfrm>
          <a:prstGeom prst="rect">
            <a:avLst/>
          </a:prstGeom>
          <a:ln w="0">
            <a:noFill/>
          </a:ln>
        </p:spPr>
      </p:pic>
      <p:sp>
        <p:nvSpPr>
          <p:cNvPr id="68" name="Gerade Verbindung 6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3" descr="G:\chaosknoten.png"/>
          <p:cNvPicPr/>
          <p:nvPr/>
        </p:nvPicPr>
        <p:blipFill>
          <a:blip r:embed="rId3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Welche Spuren hinterlässt man</a:t>
            </a:r>
            <a:br>
              <a:rPr sz="4000"/>
            </a:b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beim Surfen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Verbindungsdate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IP-Adresse -&gt; Wohnort, Sprach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Betriebssystem, Browse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Verlauf der Seitenaufruf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Cookies…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9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Cookies: Beispiel Amaz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Picture 2" descr="G:\Chaos macht Schule\Mittelstufe - Wilhelm-Gymnasium - HH-Harvestehude\Keynote\amazon.png"/>
          <p:cNvPicPr/>
          <p:nvPr/>
        </p:nvPicPr>
        <p:blipFill>
          <a:blip r:embed="rId2"/>
          <a:stretch/>
        </p:blipFill>
        <p:spPr>
          <a:xfrm>
            <a:off x="2928960" y="1714680"/>
            <a:ext cx="4500720" cy="4429080"/>
          </a:xfrm>
          <a:prstGeom prst="rect">
            <a:avLst/>
          </a:prstGeom>
          <a:ln w="0">
            <a:noFill/>
          </a:ln>
        </p:spPr>
      </p:pic>
      <p:sp>
        <p:nvSpPr>
          <p:cNvPr id="79" name="Rechteck 4"/>
          <p:cNvSpPr/>
          <p:nvPr/>
        </p:nvSpPr>
        <p:spPr>
          <a:xfrm>
            <a:off x="357120" y="1785960"/>
            <a:ext cx="2571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Amazon weiß,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was ich mir in der Vergangenhe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angesehen habe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und schlägt mir entsprech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andere Produkte v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So kann Amazon me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Surfverhal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nachvollziehen 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zielgerichtete Werbung schalt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Gerade Verbindung 7"/>
          <p:cNvSpPr/>
          <p:nvPr/>
        </p:nvSpPr>
        <p:spPr>
          <a:xfrm>
            <a:off x="28584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3" descr="G:\chaosknoten.png"/>
          <p:cNvPicPr/>
          <p:nvPr/>
        </p:nvPicPr>
        <p:blipFill>
          <a:blip r:embed="rId3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„</a:t>
            </a: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Vorratsdatenspeicherung“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Der Staat liest mit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Uhrzeit und IP-Adress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Aufgerufene Webseite (URL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Absender, Empfänger und Inhalt </a:t>
            </a:r>
            <a:br>
              <a:rPr sz="2600"/>
            </a:b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jeder Email und SM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Rufnummern und Anrufdauer bei Telefonate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Standort (Funkzelle) von Handy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Welche Spuren hinterlässt man</a:t>
            </a:r>
            <a:br>
              <a:rPr sz="4000"/>
            </a:b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beim Surfen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Freiwillige“ Date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Soziale Netzwerke“ und Chat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Persönliche Benutzerprofil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Internet Archiv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Unverschlüsselte Passwörte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Privatsphä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785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Was bedeutet für euch „Privatsphäre“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07-07T05:55:05Z</dcterms:modified>
  <cp:revision>135</cp:revision>
  <dc:subject/>
  <dc:title>Folie 1</dc:title>
</cp:coreProperties>
</file>